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408-3EFF-42D3-878B-1A8F5811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ABB-4C31-4182-8558-C4222615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AF3-B23F-4017-92CE-DE6A73B6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921F-DF4C-45C2-A034-D93354AE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F0A1-A2B5-4611-9FC0-FD35E31D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E000-0AA3-49EC-8CA2-D4A31CBB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D8AF-5ACD-4F16-81C9-EB8C23EF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7F6-DA85-445E-AF50-460D035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08BC-7419-4CC6-ABC0-3C153950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A069-A462-4FA9-B880-2C83922D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DEE8-617A-4EBF-840B-759F120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9A8-3D8B-40D1-ABE9-3E6343E9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8CB3-C7D5-4E86-A791-1D6BB69D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C58-6108-4233-944E-58861E0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E164-EA07-465F-8440-6BEDD2C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AF1C-53C5-4A8E-94A6-85BB0FB1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3B6C-3E6E-4E88-BA59-B2B9E569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6CA2-DA7E-42AA-8EE7-05C8047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BA9-1C09-4979-91CE-364AB49C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8DF-7DCE-49E3-9B40-6C2431C3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EEC-DFA7-4F17-BBF6-1066CE6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DCA3-F4B8-4089-B10A-958C07A5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BF3-EA98-4ED2-80AC-3053C62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819-8922-4F59-A803-2CCF5656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DAE5-61B0-4B61-B507-B3EC1BCC2B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D47-31A0-42E7-ADC2-A3C1DC57A9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D:\Exposition.doc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D:\Discussion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D:\Response.doc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Response.doc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aplan.edu.au/writing_2011_-_domains.html" TargetMode="External"/><Relationship Id="rId2" Type="http://schemas.openxmlformats.org/officeDocument/2006/relationships/hyperlink" Target="http://www.naplan.edu.au/verve/_resources/NAPLAN_2011_Writing_Fact_Sheet.pdf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aplan.edu.au/verve/_resources/persuasive_prompt.pdf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classroom-resources/student-interactives/persuasion-30034.html" TargetMode="External"/><Relationship Id="rId2" Type="http://schemas.openxmlformats.org/officeDocument/2006/relationships/hyperlink" Target="http://www.writingfun.com/writingfun2010.html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6699"/>
                </a:solidFill>
                <a:latin typeface="Verdana"/>
              </a:rPr>
              <a:t>TEACHING WRITING: Persuasive Text</a:t>
            </a:r>
            <a:endParaRPr b="0" lang="en-US" sz="52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Curriculum Team CS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What do we ask of our students?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Middle clas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glo Saxo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glish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47640" y="3789360"/>
            <a:ext cx="6409080" cy="20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language of PO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Exposi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thesis or pos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 a series of paragraphs to argue the pos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 up, restate the position or provide a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-Exposit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noun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ears zo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bstract noun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policy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ical word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peci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of anim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ting verb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It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impor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on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We  must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nking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Many peopl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 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We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mus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 adverb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ertainl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we must 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iv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firstly second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ve language important signific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-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Discuss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State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A series of paragraphs to argue for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A series of paragraphs to argue against the issu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Concludes by summing up or providing a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 - Discussion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l nouns       uniforms   alcoh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lating verbs       is are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nking verbs       feel believe h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n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v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simil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astiv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on the other h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usa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how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un group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unwanted kitte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dali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 perhaps must should m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erbs of manner deliberately hopefu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Structure_</a:t>
            </a:r>
            <a:br>
              <a:rPr sz="4000"/>
            </a:br>
            <a:r>
              <a:rPr b="0" lang="en-US" sz="40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Personal Respons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ext for the respon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rites an opinion or reac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Grammar – </a:t>
            </a: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Personal Response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l types of ver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un groups describing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esent tense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st tense if historical set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mporal sequence of ev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language used in jud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ause or sentence themes that are often title of the book. Auth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Structure -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Review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text – giving information about author, work, setting and summar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agraphs describing main characters, relationships and theme of tex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udgement by evaluating the work giving opinion or recommend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Grammar - Review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 per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NB. Students are encouraged to speak and write Personal responses in Stage 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y stages 2 and 3, students should be speaking and writing revie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Language features / Grammar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inion ad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ised nou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ords that qualify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usually, probably, some, m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nectives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also, another reason, as well, however, theref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nking &amp; feeling ver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motive language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hero, champion, bloodshed, disa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jectives (mod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valuative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juncti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2011 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NAPLAN</a:t>
            </a:r>
            <a:r>
              <a:rPr b="0" lang="en-US" sz="4400" spc="-1" strike="noStrike" u="sng">
                <a:solidFill>
                  <a:srgbClr val="666699"/>
                </a:solidFill>
                <a:uFillTx/>
                <a:latin typeface="Verdana"/>
              </a:rPr>
              <a:t> Writing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the 2011 NAPLAN Writing test, students in Years 3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, 7 and 9 will write a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rsuasiv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ex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ersuasive writing is writing in which the writer n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vince someone of his or her point of view 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 example, a student may be asked wh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ding books or watching TV is bette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tudent would present his or her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 th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pic and would includ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reasons for th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opin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writing this way, the student is attempting 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ersuade the reader to agree with his or her opinion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www.naplan.edu.au/verve/_resources/NAPLAN_2011_Writing_Fact_Sheet.pd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Persuasive Texts-Criteria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riter’s capacity to orient, engage and persuade the 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ext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organisation of the structural components of a persuasive text (introduction, body and conclusion) into an appropriate and effective text 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reation, selection and crafting of ideas for a persuasive arg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use of a range of persuasive devices to enhance the writer’s position and persuade the 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ange and precision of language cho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he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ontrol of multiple threads and relationships over the whole text, achieved through the use of referring words, substitutions, word associations and text conn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aragrap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egmenting of text into paragraphs that assists the reader to follow the line of arg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ntence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roduction of grammatically correct, structurally sound and meaningful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nct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use of correct and appropriate punctuation to aid the reading of the 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accuracy of spelling and the difficulty of the words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Activity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Verdana"/>
              </a:rPr>
              <a:t>Assisting students in improving their 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Sample Task </a:t>
            </a:r>
            <a:br>
              <a:rPr sz="4000"/>
            </a:b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naplan.edu.au/verve/_resources/persuasive_prompt.pd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Useful websites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http://www.readwritethink.org/classroom-resources/student-interactives/persuasion-30034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Verdana"/>
                <a:hlinkClick r:id="rId2"/>
              </a:rPr>
              <a:t>http://www.writingfun.com/writingfun2010.htm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ploring the Modul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What is the expectation for each stage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Persuasive writing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ic and task will be the same for Years 3 5 7 and 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will be marked in a way that closely resembles narrative writing as  there is common criter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Talking &amp; listen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99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ff9900"/>
                </a:solidFill>
                <a:latin typeface="Verdana"/>
              </a:rPr>
              <a:t>“</a:t>
            </a:r>
            <a:r>
              <a:rPr b="1" i="1" lang="en-AU" sz="3200" spc="-1" strike="noStrike">
                <a:solidFill>
                  <a:srgbClr val="ff9900"/>
                </a:solidFill>
                <a:latin typeface="Verdana"/>
              </a:rPr>
              <a:t>In the literate citizen…..all these repertoires are variously mixed and orchestrated in proficient reading and writing, speaking and listening, viewing and representing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ff9900"/>
                </a:solidFill>
                <a:latin typeface="Verdana"/>
              </a:rPr>
              <a:t>Luke and Freebody 199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Not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enever the word 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text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ed it include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ritten, visual, oral/aural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gital and multimodal tex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8360" y="5318280"/>
            <a:ext cx="1698480" cy="1539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2027160" cy="1352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1280" y="836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666699"/>
                </a:solidFill>
                <a:latin typeface="Verdana"/>
              </a:rPr>
              <a:t>Persuasive vs Narrativ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suasive writing assesses rhetorical techniques (writer’s viewpoi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arrative writing assesses the development of character and setting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76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Verdana"/>
              </a:rPr>
              <a:t>*Text types /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4360" y="1504800"/>
          <a:ext cx="8075520" cy="5050080"/>
        </p:xfrm>
        <a:graphic>
          <a:graphicData uri="http://schemas.openxmlformats.org/drawingml/2006/table">
            <a:tbl>
              <a:tblPr/>
              <a:tblGrid>
                <a:gridCol w="2087280"/>
                <a:gridCol w="598824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present an opinion; to argue a case for or against a particular position or point of vi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look at more than one side of an issue; to present arguments for and against a position, based on evidence,  before coming to a 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mmarise and respond personally to a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summarise / analyse a literary text and assess its appeal and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Verdana"/>
              </a:rPr>
              <a:t>Activity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sk 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333684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05:41:43Z</dcterms:created>
  <dc:creator>trish.gleeson</dc:creator>
  <dc:description/>
  <dc:language>en-US</dc:language>
  <cp:lastModifiedBy>catherine.murray</cp:lastModifiedBy>
  <dcterms:modified xsi:type="dcterms:W3CDTF">2010-08-19T23:08:11Z</dcterms:modified>
  <cp:revision>11</cp:revision>
  <dc:subject/>
  <dc:title>TEACHING WRITING: Persuasive Text</dc:title>
</cp:coreProperties>
</file>